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881E-8B79-4670-90F8-537F225EA7C2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4CD1-52F9-40DC-A113-5788B32171C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7EB7-D284-4E3E-8D4E-39299FC8022A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BEFE-45B6-416E-B1BD-F6F2999EEDC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BA8E-DEC7-41F3-8112-D802BD3CCBE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2C4-EF5F-483E-9C1E-F89067B0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F42-65D9-41ED-8C44-D745F12E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C57-07F8-4F04-8DA1-076F0236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D1F-3696-4239-B08B-32C099F7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FD1-AF89-44CB-B311-63F02882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106-24E4-476C-A172-3A65234B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C05-A29E-475A-A250-6305D524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7E1-C2E2-4724-8604-A6467614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62F-3CE5-4557-AF5F-21D091D1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4D6-8CA4-48B0-AF36-D112DD4F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E83-6684-46FC-9061-FD54F36A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CC1-544B-4363-9A5C-C6EA5464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B523-24A7-44A4-9391-33CD2DB270FD}" type="datetime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BD0A-9079-4C7A-A139-8E8D02259023}" type="slidenum">
              <a:rPr b="0" lang="en-GB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85840" y="1857240"/>
            <a:ext cx="4390920" cy="3778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Struggling with organic chemistry? </a:t>
            </a:r>
            <a:r>
              <a:rPr b="1" i="1" lang="en-GB" sz="2000" spc="-1" strike="noStrike">
                <a:solidFill>
                  <a:srgbClr val="000000"/>
                </a:solidFill>
                <a:latin typeface="Lucida Sans Unicode"/>
              </a:rPr>
              <a:t>Then try the Easter Exercise!, first trialled in 2010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t was design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help students to improve their basic skills in organic chemist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assist them in working effectively on their ow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boost their confidence and keep them engag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" name="Picture 6" descr="org_example.jpg"/>
          <p:cNvPicPr/>
          <p:nvPr/>
        </p:nvPicPr>
        <p:blipFill>
          <a:blip r:embed="rId1"/>
          <a:stretch/>
        </p:blipFill>
        <p:spPr>
          <a:xfrm>
            <a:off x="4572000" y="2857680"/>
            <a:ext cx="4276800" cy="2428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85840" y="2000160"/>
            <a:ext cx="4390920" cy="45133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Problem set to complete over the Easter holida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A video mark scheme will be available for self-assess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Marks will reported back via VLE (+ your feedback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he video mark scheme resembles a tutori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4786200" y="2286000"/>
            <a:ext cx="4168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" name="Markscheme Q3.wmv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715600" cy="48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631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0" y="1571760"/>
            <a:ext cx="4714920" cy="4639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375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d3f49"/>
                </a:solidFill>
                <a:latin typeface="Lucida Sans Unicode"/>
              </a:rPr>
              <a:t>Feedback from the students last year was excellent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The resources are fantastic…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…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 feel that I got some decent learning out of this exercis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t was a brilliant exercise in covering things I had already understood, whilst simultaneously highlighting things I'd clearly managed to remember or even learn wrong in the first plac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714920" y="2357280"/>
            <a:ext cx="427968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0" y="1857240"/>
            <a:ext cx="4714920" cy="395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Some students talked about </a:t>
            </a:r>
            <a:r>
              <a:rPr b="1" lang="en-GB" sz="2400" spc="-1" strike="noStrike">
                <a:solidFill>
                  <a:srgbClr val="2d3f49"/>
                </a:solidFill>
                <a:latin typeface="Lucida Sans Unicode"/>
              </a:rPr>
              <a:t>reflection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Improvement in attain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Won the </a:t>
            </a:r>
            <a:r>
              <a:rPr b="1" lang="en-GB" sz="2400" spc="-1" strike="noStrike">
                <a:solidFill>
                  <a:srgbClr val="3333cc"/>
                </a:solidFill>
                <a:latin typeface="Lucida Sans Unicode"/>
              </a:rPr>
              <a:t>‘Most effective use of video in an educational context’ 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award from the AL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Further resources are being develop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714920" y="2571840"/>
            <a:ext cx="416880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9:22:55Z</dcterms:created>
  <dc:creator>user</dc:creator>
  <dc:description/>
  <dc:language>en-US</dc:language>
  <cp:lastModifiedBy>dr1d06</cp:lastModifiedBy>
  <dcterms:modified xsi:type="dcterms:W3CDTF">2011-03-28T19:10:53Z</dcterms:modified>
  <cp:revision>200</cp:revision>
  <dc:subject/>
  <dc:title>PowerPoint Presentation</dc:title>
</cp:coreProperties>
</file>